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033-DD7E-4F66-B5B3-E7044516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7CB-4976-43DC-B9A2-4075A377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47F-27DB-4065-9016-F927981B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51E7-5218-4091-9DBD-781010BF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DBA-4499-4467-8B11-13CE546B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D93-0F78-4595-9247-D59E5CA8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2676-2855-49C7-8A8A-AB714660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0EA-5DD7-49BC-9B5D-E51D6787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F19-1C50-484F-850C-02B89DF8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43A-E5F1-4CE9-95A8-FB08605D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A9A-D45E-4319-B271-56D5DA07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A9C-A3DD-4BC0-8BFB-4E69438F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E8A0-1919-44ED-9DCF-794649385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ather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5770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neig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à Liè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fait beau à Saint M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pleut à Perig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fait froid à Bl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gèle à S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fait mauvais à Beauv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fait chaud à P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y a du vent à 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y a du soleil à St. Gerv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y a des nuages à Montric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l y a de l’orage à Paris p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t moi, je vais à 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3203640" cy="518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850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22:02:37Z</dcterms:created>
  <dc:creator>User</dc:creator>
  <dc:description/>
  <dc:language>en-US</dc:language>
  <cp:lastModifiedBy>User</cp:lastModifiedBy>
  <dcterms:modified xsi:type="dcterms:W3CDTF">2004-06-21T13:22:00Z</dcterms:modified>
  <cp:revision>6</cp:revision>
  <dc:subject/>
  <dc:title>Weather rap</dc:title>
</cp:coreProperties>
</file>